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6E7-DF3E-461F-BB27-12847AAA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20B-B5A0-49E6-AB1B-DB48891E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547-D4E0-45B0-9E13-0AEED63C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F25-7277-419C-BDB7-7AB1F6E5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29B-71F8-4F0D-BE8A-09573142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00B-56E7-43C4-A5F7-7697CAC4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96F-7210-44C3-9BBF-B7C17394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DA3-E250-4EA1-9C87-8614D31D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6B8-7994-439E-A9D4-785CC248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A95-28C1-4779-9291-F41EACF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3E0-E811-43B1-BF0D-09196C9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A6D-22CC-4353-A870-2C77604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7163-142B-438D-A455-C0D95908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inar.ipo.kpi.ua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iktorijaaleks@gmail.com" TargetMode="External"/><Relationship Id="rId2" Type="http://schemas.openxmlformats.org/officeDocument/2006/relationships/hyperlink" Target="mailto:ebogun@gmail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f\НМК\html IPO\img\logo_ipo.gif"/>
          <p:cNvPicPr/>
          <p:nvPr/>
        </p:nvPicPr>
        <p:blipFill>
          <a:blip r:embed="rId1"/>
          <a:stretch/>
        </p:blipFill>
        <p:spPr>
          <a:xfrm>
            <a:off x="0" y="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04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таємо вас на вебін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Синтаксис мови програмування 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105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одиться за підтримки Студії освітніх вебінар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binar.ipo.kpi.u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крофон увімкнений тільки у ведуч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що ви хочете щось сказати, «підніміть руку», натиснувши на кно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Беріть активну участь: пишіть повідомлення у текстовий чат, говоріть, виконуйте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rcRect l="14436" t="33990" r="83336" b="61718"/>
          <a:stretch/>
        </p:blipFill>
        <p:spPr>
          <a:xfrm>
            <a:off x="1676520" y="2971800"/>
            <a:ext cx="717480" cy="87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45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Правила участі у вебін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80880" y="838080"/>
            <a:ext cx="8153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кторія Олександрі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ktorijaaleks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pe viktorijaale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л. 050 487 2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Ведучий вебін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9718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Мод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05320"/>
            <a:ext cx="66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Юрий Миколайович Богачков, к.т.н. (Ки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Директор  Інституту перепідготовки і підвищення кваліфікації  НТУУ «КПІ»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ipo.kpi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bogun@gmail.com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kype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bogu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Тел. моб +(38066)-049-83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Найпростіша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2952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990720"/>
            <a:ext cx="3810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 (“hi, everybody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143000"/>
            <a:ext cx="3810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He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 (‘hi, everybody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90720" y="1980720"/>
            <a:ext cx="365760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219320" y="3123720"/>
            <a:ext cx="365760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26708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 (“hi, everybody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143000" y="47239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562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Назва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800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02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аргумент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962520" y="4723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181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Символ кінця 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Імена змі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9072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ший символ ідентифікатору повинен бути буквою або знаком підкрес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ступні символи можуть бути буквами, цифрами або знаками підкрес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352680"/>
            <a:ext cx="79246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..b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ll_face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590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Правильно/не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288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Ініціалізація змі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99072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5.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‘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=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ператор присво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loat </a:t>
            </a: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исла з плаваючою точ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t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ілі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har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мвольні дані</a:t>
            </a: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990720"/>
            <a:ext cx="79246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ератор присвоювання  і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_змінної=ви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ножинне присвоювання – одне і те ж значення можна присвоїти декільком змінн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y=z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кладене присвоювання – для скорочення запи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риклад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z+3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на записати я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+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ератор += повідомляє компілятору,що змінній необхід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своїти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380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Опер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4267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Арифметичні опе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1814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+     -    * 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% остача від ді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- зменшення       ++ збільшення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53352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ntf("%d ", x/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ntf("%d ", x%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18148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d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вести аргумент як ціл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вести аргумент як число  з плаваючою точк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29528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magic; /* магічне число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guess; /* спроба ігрок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gic = rand(); /* генерація магічного числа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rintf(«Угадай магічне число: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canf("%d", &amp;gues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f(guess == magic) printf("** Вірно **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80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Умовни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2T21:29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